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50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923-BAE2-4AFB-A1B6-BF4F2A9C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F11-4F71-4880-9197-2DC867FD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F70-A580-4973-999F-572AF1C5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769-B012-4378-A040-E7ED5CE4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2B9-A09A-4CC4-8F00-15FFBFA0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7AC-4AB6-461B-9D6E-ABE9C339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CD3-162E-403C-BA0F-A5A26C11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DB8-3B8B-461C-8AFB-6B1E7A41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D4E-D824-44C4-A721-BB2F1CA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076-9DE0-48FC-841E-8ADE325F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B5D-5220-4544-82E2-5F3A55F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18C-6AA0-428F-B440-3024AEBE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FEA-D52A-4C13-A35F-210D7493E2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op%202.MP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jazz%202.MPG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ock.mpg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424-B8A6-4BE1-9E9F-8E2F66A0AC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b.) be familiar with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某人…对比较熟悉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熟悉她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ha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come familiar with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0800" y="3886200"/>
            <a:ext cx="59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familiar wi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6FC-9CE8-419C-84A0-0AE4D413A4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 familiar to s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对某人来说比较熟悉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r nam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amilia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ery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familiar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r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3AC-74FF-4747-BFA1-545FF90A51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7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ve some fai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iet and peaceful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would prefer to do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F81-204E-4627-A72B-EF796BEE82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 ---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rath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ay her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-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 rather 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isten to jaz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41911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’d rath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C4A-6076-49D5-A49A-54E3D6C2A2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 +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 the tru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d not me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7FC-5E19-4939-801C-958112B66F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宁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而不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rather hav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red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green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ould rat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isten to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alk himself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866-FDFA-4650-8A28-05CF714529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The student would rathe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teach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par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D73-47D0-4A1A-8924-831AB1B093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愿意坐火车旅行，不愿坐汽车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2. I would rather travel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than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280" y="358128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960" y="44197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5F2-D104-461D-81C5-825E05E9B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therwise 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v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therwi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e won’t be able to h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urselve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if no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BB7-FD32-4DE1-8DE8-F498A25CBF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onj.    if not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Now I must g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shall be 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the birthday par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穿上大衣，否则你会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680" y="464832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ar your co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’ll be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969-A11A-46A9-BA30-B96C3FD534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get to know sth. about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707-E8FC-4D3B-BD4E-3C4CFD7F3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must pay $ 100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The book must be he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have los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1B2-E3F1-4944-93F2-8C6EE4724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 not to play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ike one thing or person bet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喜欢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77B-BCA2-4028-BB69-19186A2733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him to spe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ay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43E-7162-48D0-943C-F2A1813FE0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不愿意你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you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 _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0080" y="411480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not to le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657-68FC-4F20-9B71-D672B43607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 offered to drive us home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to wal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not to st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D3F-1B16-4C34-8444-622B7E297C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比起后者来更喜欢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1. I prefer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English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to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Japanes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62D-4DD2-4887-B461-41750CE64A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atch TV at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ch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V at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AE8-35BA-4C37-8C89-BA00BF7E0A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to do) sth. rather than (do) sth.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…而不愿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喜欢牛肉，不喜欢猪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pref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ooks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it idl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8098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prefer beef rather than p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5CB-379D-4139-AECE-B527DAD6AB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refer to,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B3D-FB9C-4D19-B0EC-1356E8A33F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prefer to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F34-1336-49E8-9A33-5EC001B497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BA1-AF47-40D9-8DAA-CE1FE9B8F2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2C6-6C72-4539-88C0-215C6655E8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826-6B59-4D69-9201-285517AB4B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C06-F268-4EEB-913F-ECAC008B4C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B3D-4904-4A71-84FB-DA4E20E35C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BF0-BF10-49CC-87BC-A5B0D261E6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08E-945B-4FEF-BC92-0DD6DE25D3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4E7-35DA-4755-BAF9-5818B4AF6C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A38-06EE-4385-BEE1-E875D26698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E4D-A7D8-49E0-BE4E-6597C6FA4B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5AC-C465-440A-9399-FC1D4B7C67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D4E-A15D-487D-9DE6-23C386AD82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126-BA2C-4481-A494-0A3D81555F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F3C-B907-4BB3-A738-7324AB4E58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E4F-1566-4F30-9776-0524E28527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E8C-CD69-432D-B12D-065774087C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any people write music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ll pop stars write so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Folk music has a long hi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666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1F7-E5C4-44E5-B940-08C23E87DB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n the old days without radio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V or  cinema, people lo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spected the music perform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ery much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Now, some musicians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the streets for free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8360" y="5334120"/>
            <a:ext cx="5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26A-F9CB-45E3-AA91-D56AD3CD6EB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Folk music plays an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rt in African people’s lives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China makes the most film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orld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Musicals are films with music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6D8-9C48-4D1F-B063-EBEC6C18B5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9. West Indians were brough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frica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 Jazz was born in 1980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 Jazz was developed i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the USA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12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45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95288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157-F915-459D-9B40-95FBB7383A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country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ra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o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575-5574-4812-84E9-C0A6F5A7B8A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ABF-7738-440B-A89C-174C6F43F23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9B6-BE74-48B2-BB16-7FB27A55DF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流行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rong beat and not of l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est, especially just fav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a short time by younger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DCF-3A62-4FAA-8446-8A7C25CC146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87C-79A4-49D8-8084-C3FA0C04E5C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爵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usic originated by black Americans, usually with a strong beat and some free playing by each musician in the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DB1-0D90-4264-8A80-0299272C716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D78-E9FF-464C-9213-DD805A65DF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摇滚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lso called rock and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stro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at, played loudly on elect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ments, in which the sing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peats the same few simpl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072-53AF-4F0D-AFE9-3434990983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. Word study— Page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B. Exercise 2 — Page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BFC-D85A-4B5D-91F7-9D1BB1A8FA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ww.bjedu.gov.c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4E0-FE29-42CC-96BF-883976BBF43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5B2-5431-40FB-B9B6-7720405D9A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468-C050-49D5-A946-5E217E037E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055-CFEF-49CF-9B68-D7B820F6F0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amilia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4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songs that everyon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s familiar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generally  known or see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熟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7B7-81B1-468D-B1B5-0DCC3575F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1:29:00Z</dcterms:created>
  <dc:creator>BJ4HS</dc:creator>
  <dc:description/>
  <dc:language>en-US</dc:language>
  <cp:lastModifiedBy>Zhang Lingdi</cp:lastModifiedBy>
  <dcterms:modified xsi:type="dcterms:W3CDTF">2003-06-03T06:45:43Z</dcterms:modified>
  <cp:revision>107</cp:revision>
  <dc:subject/>
  <dc:title>Unit 21 Music （一）</dc:title>
</cp:coreProperties>
</file>